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08CF-5517-4E24-9914-9E0E0508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A8C-D69C-4110-B038-145AC401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F13-338B-42C2-B4C3-8FE9CE47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05E-1446-49E9-B6C4-7F8717F6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F600-7677-49D9-8315-F2493D86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91C6-797F-4294-89D2-D8675FE9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7104-EE66-4A1F-AD21-F44FF341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98AD-5666-45DB-9E4D-D411BFC6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23A5-75D8-4925-83FF-12197DE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1B0B-1AAA-47E9-856A-DFBEBEEE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6588-2CB0-4B34-8BF6-AACD1841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322-841F-48D7-8F75-572CE19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10C9-90B5-4453-B7DE-E4ED8DBC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E1DC-F033-4B9B-A189-2431E68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70C4-79E9-4DE0-A8D8-D958138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2483-0DBC-4E00-9F05-3E84CAE9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A2A9-62A3-4F3B-9DFE-CE5FEFEE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5A4E-A6A9-4AFE-B506-6E9813D2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E74C-C6E3-460A-82A5-BAB7F47E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1890-09E0-4B88-9AFF-7BC803B5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EDE6-473E-4218-8AA4-BF9D09F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74EE-A86C-42AA-A78F-9973A12D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FA1-432C-4BC8-931B-2C686B89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4130-DFA2-4B6C-9CDB-6C4B61CA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3FB1-7CFA-43BE-B8B2-52E911B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FF1F4-B8CB-4258-A8B2-A8620C9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EFFA-AE50-457D-9929-815B7EB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A362-C22C-4B44-BFE7-114D953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A31C7-2217-49FB-A497-7C0C90B0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7FF8-A396-40A1-967D-2B803673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DF2E-76B7-44B7-BDE2-6B9EDFDD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DE7E7-9422-4DB9-9A7B-67863796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22C2-91E5-41FD-B1E7-7A466AF4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681-96EC-4785-A412-250FE783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FB7D-58F3-4615-9268-47525EB8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B88E8-1BA0-4882-B9B9-F2B37895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8DC7D-1765-412F-A348-D6540295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4D07-5B75-47E9-89EB-C6DCAB4E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31C8-2070-4D8A-964A-4B4F9608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10E3-346C-483D-A859-7728B22C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156E-1DDC-4908-9AA6-7DE4717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0577-7FB1-4658-859F-4ABED6B2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0719-CEE3-44E4-A484-8346C06A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5CBC-0E6D-4328-B96C-31BF64A0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EFE-8C63-4735-AE4B-9807BD06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2244-C141-4653-B4F2-E0996158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B85BF-DFF7-4B6E-BDC8-2C00042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D80C-E198-4612-B685-8784AD8E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3AD57-0B3C-43C9-BA3C-98F03823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8A76-5856-49BE-B93F-52977959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9ABA6-300C-4426-B5DE-DB130489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21A9-C792-4602-B975-114BC7C4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2495F-6404-4B1D-B244-82BD5569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27896-EF37-4A54-B35E-0186B34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63216-DEA9-4A53-8879-8F320C5C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CD5-7532-49EF-A045-3E821D6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76C9-3D85-4C36-817F-BC55E04E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EB769-9704-456A-9D7C-0B246F55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E98B3-0CB3-44EB-8835-8EA5D2B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86B6-A83A-400A-8EEC-CD91A3C6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9240-9802-47DF-A864-B645CF6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9B0E-AEA3-4F9D-A957-1304EBB8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2AC7-F98A-4EC4-B0CE-C21618AD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6FF6B-4799-4FC4-A194-DA2D7337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6792-5C7F-49A7-B29E-8B0C8CF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485D-3AAF-47FD-BC9B-A772758B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306A-5AA4-4FDA-8668-264D7D65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DAA26-985C-459F-99F3-BBC2F1CE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93C3-03A9-4666-90F7-6468097F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8B6C-A81F-4058-B7F3-DD62E54A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9046-8C3B-4728-94CE-9E7FAF39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B86A4-BB51-423A-BD5F-AEBEB9D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CA96-6C5D-4175-8AD7-CFEEEEC3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C605-E272-4492-BADC-B9AC9DA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A5A60-4868-4608-9F63-C44DF1B5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5FCAD-8FBA-472C-AE2B-347EE3DE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DF706-ECEA-42FD-95A3-78D0C791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51A-020C-4882-A6EC-AC8F781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23222-8EA6-4126-9DEC-4171F20E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FB31-919C-4466-BEB1-8FBA95E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665D-9CE6-4550-88E2-87DE836C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D363-E709-4824-994F-DD9F3E76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40BFA-74DA-4D8D-8D85-A161FB56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C29D3-6953-4796-8272-6387575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DE1CE-2617-4769-ADC6-FA57D993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9839-097D-4873-A7BF-1C623403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5414A-9B6A-4EE8-8307-E8BF730E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43DE8-13CA-4E56-9ACA-2F4F7D44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74C-30A3-441B-8BB2-947BBB93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637E6-B35E-4584-BF29-F4CBF412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25B5-EE8F-42F3-AF5E-C7189828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0052-DA14-4A8F-8270-9442F71F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ECA86-0095-4FCF-8194-4F31AA0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B2143-BCE1-4654-BB0F-28D35FC2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236FA-53CB-4A23-8828-AA0816AC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92982-3636-4BED-8C08-43D47CE8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BB82-FBF1-4D04-BB8D-CC9837F3E8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AFB4-302A-4687-9B49-BC28B7E0BD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FD71-955A-48D0-AD30-6BAA04D9D7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4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C93A-546E-410C-AFCF-3986FB6C8F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06EC-E751-462C-80B1-A32DF118D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3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3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4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409-EDC3-4D2A-8231-C308A0A0B7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0DAB-C690-49E4-985E-BE5A8CF6F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4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61C4-936D-4E16-9DB0-7F4DADF077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ttachments-blog.tut.by/4426/files/2009/01/0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.foto.radikal.ru/0705/8d/196aedbedb99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Урок-путешествие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352680" y="5562360"/>
            <a:ext cx="56390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злова И.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АОУСОШ №8 г.Старая Русса Новгородской об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2209680" y="3352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натоки рыб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нимательная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Какая рыба в Амазонке самая опасная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Какие рыбы имеют оружие на носу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Название каких рыб состоят из трёх букв ? К как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ряд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х относят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Давно уже замечено , что большинство видов акул находятся в движении с первого до последнего дня своей жизни и только некоторые неподвижно отдыхают на дне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Тело рыб обтекаемой формы . Голова их сразу переходит в туловище , а шеи нет вообще . Хвост у рыб  очень мускулистый и массивный . С чем это связано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) На свежей или вяленной рыбе можно убедиться   , что её позвоночник легко гнётся вправо и влево , но при попытки согнуть его в вертикальной плоскости у вас ничего не получится. Как вы это объяснит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) Сельские жители вырыли котлован и заполнили его водой можно ли запустить туда рыб ? Ответ обоснуйте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оловоломк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«Живое ископаемое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609480" y="2133720"/>
          <a:ext cx="4191120" cy="3108240"/>
        </p:xfrm>
        <a:graphic>
          <a:graphicData uri="http://schemas.openxmlformats.org/drawingml/2006/table">
            <a:tbl>
              <a:tblPr/>
              <a:tblGrid>
                <a:gridCol w="419400"/>
                <a:gridCol w="419040"/>
                <a:gridCol w="419040"/>
                <a:gridCol w="419040"/>
                <a:gridCol w="419040"/>
                <a:gridCol w="419040"/>
                <a:gridCol w="419400"/>
                <a:gridCol w="419040"/>
                <a:gridCol w="419040"/>
                <a:gridCol w="41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89"/>
          <p:cNvSpPr/>
          <p:nvPr/>
        </p:nvSpPr>
        <p:spPr>
          <a:xfrm>
            <a:off x="5715000" y="259092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йдите начал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головоломки 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 непрерывн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линии прочитайте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какую рыбу и почем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азывают живым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ископаемы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Обобщить знания учащихся по теме «Рыбы», проверить их качество, развить познавательный, мыслительный интерес к биологии и коммуникабельность учен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3810240" cy="56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9ddcd"/>
                </a:solidFill>
                <a:latin typeface="Arial"/>
              </a:rPr>
              <a:t>Л.Н. Толст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ЗНАНИЯ ТОЛЬКО ТОГДА ЗНАНИЯ , КОГДА ОНИ ПРИОБРЕТЕНЫ УСИЛИЯМИ СВОЕЙ МЫСЛИ , А НЕ ПАМЯТЬЮ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572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анция «Загадочная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гадайте загадки. К каким классам относятся рыбы, о которых  пойдет речь и назови признаки классов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Драчун и забияка живет в воде, кости на спине, и щука не проглотит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человек, не зверь, а с усами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У нее во рту пила. Под водой она жила. Всех пугала, всех глотала. А теперь в котел попал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 зубастой трехметровой рыбкой знакомство было бы ошибкой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95680" y="277560"/>
            <a:ext cx="4114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Занимательн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5" name="Picture 4" descr="Картинка 21 из 1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609480"/>
            <a:ext cx="3200400" cy="3035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Картинка 2 из 700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1295280"/>
            <a:ext cx="5216400" cy="18208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Картинка 15 из 6364"/>
          <p:cNvPicPr/>
          <p:nvPr/>
        </p:nvPicPr>
        <p:blipFill>
          <a:blip r:embed="rId5"/>
          <a:stretch/>
        </p:blipFill>
        <p:spPr>
          <a:xfrm>
            <a:off x="152280" y="3809880"/>
            <a:ext cx="3962520" cy="250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Картинка 3 из 3323"/>
          <p:cNvPicPr/>
          <p:nvPr/>
        </p:nvPicPr>
        <p:blipFill>
          <a:blip r:embed="rId6"/>
          <a:stretch/>
        </p:blipFill>
        <p:spPr>
          <a:xfrm>
            <a:off x="4419720" y="3505320"/>
            <a:ext cx="411480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Станция 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3f2d9"/>
                </a:solidFill>
                <a:latin typeface="Arial Black"/>
              </a:rPr>
              <a:t>Экологическая</a:t>
            </a: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6e6d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Пруд постигла беда : произошёл сброс нефти . Поверхность пруда покрылась тонкой радужной плёнкой . Плёнка не оказала влияния мальков из икры , но затем способствовала их гибели . Почему нефтяная плёнка опасна для мальков ?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6e6da"/>
                </a:solidFill>
                <a:latin typeface="Verdana"/>
              </a:rPr>
              <a:t>2.В ручье , берега которого были покрыты лесом , обитала форель. Через некоторое время после того , как лес вырубили , форели в ручье не стало. Как можно объяснить этот факт ?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6e6da"/>
                </a:solidFill>
                <a:latin typeface="Verdana"/>
              </a:rPr>
              <a:t>3. Водоём  в небольшой степени был загрязнён радиоактивными веществами . Проведённые лабораторные анализы показали , что хищные рыбы являются самыми загрязнёнными организмами в этом водоёме. Как можно объяснить этот факт ?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Прав ли был ученик , сказав 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бы зимой спят с закрытыми глазами ?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чему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Определите , какие виды рыбы здесь зашифрованы и определите к какому отряду они относятся ?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авлтпо                         г) аск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шаку                           д) сд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цтеун                          е) атшрп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5" descr="Картинка 17 из 2143"/>
          <p:cNvPicPr/>
          <p:nvPr/>
        </p:nvPicPr>
        <p:blipFill>
          <a:blip r:embed="rId1"/>
          <a:stretch/>
        </p:blipFill>
        <p:spPr>
          <a:xfrm>
            <a:off x="2362320" y="3962520"/>
            <a:ext cx="1676160" cy="11030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Картинка 20 из 2394"/>
          <p:cNvPicPr/>
          <p:nvPr/>
        </p:nvPicPr>
        <p:blipFill>
          <a:blip r:embed="rId2"/>
          <a:stretch/>
        </p:blipFill>
        <p:spPr>
          <a:xfrm>
            <a:off x="6172200" y="3657600"/>
            <a:ext cx="1908000" cy="1432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Картинка 34 из 558"/>
          <p:cNvPicPr/>
          <p:nvPr/>
        </p:nvPicPr>
        <p:blipFill>
          <a:blip r:embed="rId3"/>
          <a:stretch/>
        </p:blipFill>
        <p:spPr>
          <a:xfrm>
            <a:off x="2362320" y="5181480"/>
            <a:ext cx="1676160" cy="1236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"/>
          <p:cNvPicPr/>
          <p:nvPr/>
        </p:nvPicPr>
        <p:blipFill>
          <a:blip r:embed="rId4"/>
          <a:stretch/>
        </p:blipFill>
        <p:spPr>
          <a:xfrm>
            <a:off x="6172200" y="525780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анци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знаватель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Была зима - такая, что с ветв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мочком белым падал вороб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кованные в ледяные глыб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чных глубинах задыхались рыб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чему зимой может происходить замор ( удушье )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Очнувшись от зимней спячки , рыбы стремятся попасть в участок водоёма с быстрым течением воды . Почему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)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вестны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учаи вылова рыбаками крупных , нормально упитанных щук , которые были совершенно слепые. Почему отсутствие зрения не сказалось существенно на жизни рыб 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) В старинных документах имеются сведенья , что Пётр Первый запретил звонить в колокола во время нереста лещей. Это вызвало недовольство у духовенства .Какими соображениями руководствовался  Пётр Первый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9632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танция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ная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7386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Закончи пословиц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а бы рыба , 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шь спать на берегу , не …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в реке - ещё не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ба мелка , да 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ожу во все заливы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и </a:t>
            </a:r>
            <a:r>
              <a:rPr b="0" lang="ru-RU" sz="3600" spc="-1" strike="noStrike">
                <a:solidFill>
                  <a:srgbClr val="000000"/>
                </a:solidFill>
                <a:latin typeface="comic"/>
              </a:rPr>
              <a:t>щ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акой-нибудь пожив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лю я край родных о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ршит камыш, горит кос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вижу как плыву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. Куда идут  они куда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худ и щу</a:t>
            </a:r>
            <a:r>
              <a:rPr b="0" lang="ru-RU" sz="2400" spc="-1" strike="noStrike">
                <a:solidFill>
                  <a:srgbClr val="000000"/>
                </a:solidFill>
                <a:latin typeface="Calisto MT"/>
              </a:rPr>
              <a:t>п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ваги пол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учок таранил носом вол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Картинка 15 из 3061"/>
          <p:cNvPicPr/>
          <p:nvPr/>
        </p:nvPicPr>
        <p:blipFill>
          <a:blip r:embed="rId1"/>
          <a:stretch/>
        </p:blipFill>
        <p:spPr>
          <a:xfrm>
            <a:off x="5105520" y="838080"/>
            <a:ext cx="3429000" cy="2035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2"/>
          <a:stretch/>
        </p:blipFill>
        <p:spPr>
          <a:xfrm>
            <a:off x="4572000" y="4724280"/>
            <a:ext cx="4114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2T18:32:1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